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8BB-4DF8-4887-B8B4-E74E3A83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1E9-8133-43CA-B397-6749AA7D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1D1-36DB-4616-8925-A74DF5B1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582-AA04-4ACA-A3C0-21552D05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D979-CE74-491E-9A45-5FF248D8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E6B0-631E-4CE5-B607-CCA4AD2A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164B-DC68-4B25-B838-53DD59EB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B937-43F6-4A5B-9553-47F4FD72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6695-F011-4A9E-B297-A5B2CE04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7868-7027-4E01-83AC-80BC8BE9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A934-8F14-49A5-99DE-9D58441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96D-4AFF-432B-A774-CD5A9916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F26B-08D3-4A3F-9B51-43CCC882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F96E-A3E8-43AD-B8C1-B2838AA0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A772-1550-4FDD-95C4-464C8164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E09E-52A7-408C-9800-B111A97F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AE35-83D9-46F1-AEED-D7CD5B38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EFF-173B-48E5-8A54-0F4A1E2B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845-D23E-4E1C-AF5F-25ACBC7B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CE9-9649-42FF-B34B-DA25BBCA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32C-9087-4E08-8D45-26EA5E61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BB5-A267-454E-8B09-9EF3C1CD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B12-0840-4953-A9BA-514A2C29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8C2-9875-4F3F-B5AF-949B253E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D5A6-9646-4981-8594-7C130352EE4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8CD5-23F8-4489-A3AC-29C4ABC089B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1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4.png"/><Relationship Id="rId6" Type="http://schemas.openxmlformats.org/officeDocument/2006/relationships/slide" Target="slide1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" Target="slide1.xml"/><Relationship Id="rId4" Type="http://schemas.openxmlformats.org/officeDocument/2006/relationships/image" Target="../media/image18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" Target="slide18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0.xml"/><Relationship Id="rId3" Type="http://schemas.openxmlformats.org/officeDocument/2006/relationships/image" Target="../media/image3.png"/><Relationship Id="rId4" Type="http://schemas.openxmlformats.org/officeDocument/2006/relationships/slide" Target="slide18.xml"/><Relationship Id="rId5" Type="http://schemas.openxmlformats.org/officeDocument/2006/relationships/image" Target="../media/image4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19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21.xml"/><Relationship Id="rId8" Type="http://schemas.openxmlformats.org/officeDocument/2006/relationships/image" Target="../media/image4.png"/><Relationship Id="rId9" Type="http://schemas.openxmlformats.org/officeDocument/2006/relationships/slide" Target="slide2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image" Target="../media/image18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22.xml"/><Relationship Id="rId5" Type="http://schemas.openxmlformats.org/officeDocument/2006/relationships/image" Target="../media/image4.png"/><Relationship Id="rId6" Type="http://schemas.openxmlformats.org/officeDocument/2006/relationships/slide" Target="slide24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23.xml"/><Relationship Id="rId5" Type="http://schemas.openxmlformats.org/officeDocument/2006/relationships/image" Target="../media/image4.png"/><Relationship Id="rId6" Type="http://schemas.openxmlformats.org/officeDocument/2006/relationships/slide" Target="slide17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69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551640" cy="2963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1197000"/>
          <a:ext cx="8421480" cy="4852800"/>
        </p:xfrm>
        <a:graphic>
          <a:graphicData uri="http://schemas.openxmlformats.org/drawingml/2006/table">
            <a:tbl>
              <a:tblPr/>
              <a:tblGrid>
                <a:gridCol w="2519280"/>
                <a:gridCol w="2301840"/>
                <a:gridCol w="36003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Информацио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Магнитные поля; 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H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дары при установке 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C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DV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lash-памя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13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08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468360" y="1557360"/>
          <a:ext cx="8229600" cy="417204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Александр</cp:lastModifiedBy>
  <dcterms:modified xsi:type="dcterms:W3CDTF">2007-10-18T02:45:40Z</dcterms:modified>
  <cp:revision>6</cp:revision>
  <dc:subject/>
  <dc:title>Архитектура компьютера</dc:title>
</cp:coreProperties>
</file>